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8DD-691C-4D07-A647-37B0BAAD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F3A-51C9-4ADD-AB19-F454FB61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9E6-6BD0-4214-A5CD-A24B85E9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F30-AA13-4572-9083-F96624C3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AAE-297D-471D-9333-BEE68071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CB8-7FE8-4303-A055-057CA20E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7AA-D25B-4967-AA7F-2AF1AE7F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CCB-8A70-463A-A2DA-0560B3A2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641-ADFB-4B7B-8637-E0F98CBA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A5A-8F19-4E15-A337-CDE2ECBB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661-FEFA-400F-AB03-39011D18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4F4-61A0-4AAA-8AF3-C835C362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F87B-7DFF-4F74-8FED-D459696DC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LASGOW                                        GLASGOW                          GLASGOW  NORTHERN                      GLANROTHES                                     HEADWELL                                       INVERCLY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-9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CLYDE                                     INVERNESS                                        IRVINE                                         KIRKCALDY                                        KIRN                                             LANARKSH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NARKSHIRE  25TH                            LOCHWINNOCH                                   LORNE                                        McLARRAN                                       MIDLOTHIAN                            NEWTON  STEW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469200"/>
            <a:ext cx="982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 STEWART                                   NITHSDALE                                        PAISLEY                                          PAISLEY                                            PAISLEY                                      PAISLEY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5800" y="18900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73240" y="333360"/>
            <a:ext cx="98748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0160" y="26028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24520" y="404640"/>
            <a:ext cx="9507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392880" y="26028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048520" y="33336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60520" y="220500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1857240" y="1916280"/>
            <a:ext cx="1390680" cy="120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440160" y="2060640"/>
            <a:ext cx="1216080" cy="112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097600" y="206064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92880" y="206064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977240" y="191628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415800" y="3500280"/>
            <a:ext cx="1170000" cy="127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073240" y="371628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8048520" y="3789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415800" y="544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1928880" y="5229360"/>
            <a:ext cx="1298520" cy="121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368520" y="5013360"/>
            <a:ext cx="1390680" cy="146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4881600" y="5157720"/>
            <a:ext cx="137160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08880" y="3645000"/>
            <a:ext cx="95076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6537240" y="537372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7977240" y="5229360"/>
            <a:ext cx="127944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6:14:46Z</dcterms:created>
  <dc:creator>John Young</dc:creator>
  <dc:description/>
  <dc:language>en-US</dc:language>
  <cp:lastModifiedBy>JY</cp:lastModifiedBy>
  <cp:lastPrinted>2000-10-23T03:20:43Z</cp:lastPrinted>
  <dcterms:modified xsi:type="dcterms:W3CDTF">2007-02-05T19:13:59Z</dcterms:modified>
  <cp:revision>18</cp:revision>
  <dc:subject/>
  <dc:title>No Slide Title</dc:title>
</cp:coreProperties>
</file>